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-46080" bIns="-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. 10 - Atomic Stru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. Electron Cloud Mod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p.272-27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ohr Model Dia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where there is 90% probability of finding an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’t pinpoint the location of an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of dots represents degree of prob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als have different sha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Energy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can only exist at certain energy le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energy levels are close to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energy level (n) can hold 2n2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. Bohr Model Dia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mplified energy levels using Bohr’s idea of circular orbi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ximum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el 1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el 2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8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el 3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8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el 4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2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tomic #: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ss: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# of p: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# of e: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# of n: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Bohr Model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e a number between 1 &amp; 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your element by the atomic number you pick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Bohr Model diagram for your element on your marker bo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ff the mass listed on the table and subtract the atomic # to find the # of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breviate the # of ‘p’ and ‘n’ in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partner check your draw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 with a new e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6845-2003-45FA-A5FE-E38DEAFB9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B4E7-D3AE-4EA6-B1E8-55FD04E9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F974-29CB-4B49-8668-C3B43D949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627E-DF58-4706-B8AC-34E535776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4A0F-7F88-473C-8894-151DAA4E1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0944-95DF-43CF-94F6-DB1ADF28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F2FD-652F-4D8B-B0D7-EB9F0D83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D599-B47C-4A98-8F01-9ECAFC5C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5250-1C88-4A4E-A776-1E79AF0B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A0CA-C845-4FE1-A411-C40BF75D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23B7-51DB-4D0E-BC73-090A4D5C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7BA6-0D7C-47E3-92CF-11B22D1B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22FA3-A91F-4B7E-ABFC-61198EC0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A05E-67A3-4D53-8C81-45F0E28F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C4B7-F382-4DFF-B821-079B8407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86B3-989E-42A3-9612-C3CABBE69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5D91-795E-4026-B428-752855C7C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90C0-6721-465D-9377-D1494538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36A9-CF46-46FA-BA91-C74AD982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E022-25B0-4779-AFAD-7E78E791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A703-6E6E-48BA-992E-81F66BDD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6AAF-360B-49E2-8AC7-102C9517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4F28-F6D6-4141-B4DA-231EE097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0DD5-5C6D-475D-9CFE-6B86F6A2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1" marL="698400" indent="-268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2" marL="1074240" indent="-214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3" marL="1504080" indent="-214560">
              <a:spcBef>
                <a:spcPts val="85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1933920" indent="-214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5" marL="1933920" indent="-21456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6" marL="1933920" indent="-21456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739D-2F9D-4297-9452-EACFB152C9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468360" y="1663560"/>
            <a:ext cx="8153280" cy="1600200"/>
            <a:chOff x="468360" y="1663560"/>
            <a:chExt cx="8153280" cy="1600200"/>
          </a:xfrm>
        </p:grpSpPr>
        <p:sp>
          <p:nvSpPr>
            <p:cNvPr id="47" name="Arc 2"/>
            <p:cNvSpPr/>
            <p:nvPr/>
          </p:nvSpPr>
          <p:spPr>
            <a:xfrm>
              <a:off x="5718240" y="16635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3"/>
            <p:cNvSpPr/>
            <p:nvPr/>
          </p:nvSpPr>
          <p:spPr>
            <a:xfrm>
              <a:off x="5643720" y="18288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4"/>
            <p:cNvSpPr/>
            <p:nvPr/>
          </p:nvSpPr>
          <p:spPr>
            <a:xfrm>
              <a:off x="5600880" y="20494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>
              <a:off x="468360" y="23796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1" marL="698400" indent="-268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2" marL="1074240" indent="-214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3" marL="1504080" indent="-214560">
              <a:spcBef>
                <a:spcPts val="85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1933920" indent="-214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5" marL="1933920" indent="-21456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6" marL="1933920" indent="-21456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1206-74FC-402D-8069-C0636F0EAAD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560" y="367920"/>
            <a:ext cx="7994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Arial"/>
              </a:rPr>
              <a:t>Ch. 10 - Atomic Structure </a:t>
            </a:r>
            <a:endParaRPr b="1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01760" y="2916360"/>
            <a:ext cx="834048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Arial"/>
              </a:rPr>
              <a:t>II.</a:t>
            </a: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ffffcc"/>
                </a:solidFill>
                <a:latin typeface="Arial"/>
              </a:rPr>
              <a:t>Electron Cloud Model</a:t>
            </a: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(p.272-274)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2062080" indent="-453960">
              <a:lnSpc>
                <a:spcPct val="100000"/>
              </a:lnSpc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Orbita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2062080" indent="-453960">
              <a:lnSpc>
                <a:spcPct val="100000"/>
              </a:lnSpc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Energy Levels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2062080" indent="-453960">
              <a:lnSpc>
                <a:spcPct val="100000"/>
              </a:lnSpc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Bohr Model Diagrams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A. Orbital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9840" y="205740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Region where there is 90% probability of finding an electron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0" name="Electron Cloud.avi" descr=""/>
          <p:cNvPicPr/>
          <p:nvPr/>
        </p:nvPicPr>
        <p:blipFill>
          <a:blip r:embed="rId1"/>
          <a:stretch/>
        </p:blipFill>
        <p:spPr>
          <a:xfrm>
            <a:off x="4486320" y="3340080"/>
            <a:ext cx="4494240" cy="2832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1" name="Rectangle 5"/>
          <p:cNvSpPr/>
          <p:nvPr/>
        </p:nvSpPr>
        <p:spPr>
          <a:xfrm>
            <a:off x="339840" y="3193920"/>
            <a:ext cx="41209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Can’t pinpoint the location of an electron.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Density of dots represents degree of probability.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A. Orbital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Orbitals have different shape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522360" y="4091040"/>
            <a:ext cx="1400040" cy="1400040"/>
          </a:xfrm>
          <a:prstGeom prst="rect">
            <a:avLst/>
          </a:prstGeom>
          <a:ln w="12600">
            <a:solidFill>
              <a:srgbClr val="ffffcc"/>
            </a:solidFill>
            <a:miter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2219400" y="4145040"/>
            <a:ext cx="3701880" cy="1290600"/>
          </a:xfrm>
          <a:prstGeom prst="rect">
            <a:avLst/>
          </a:prstGeom>
          <a:ln w="12600">
            <a:solidFill>
              <a:srgbClr val="ffffcc"/>
            </a:solidFill>
            <a:miter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6261120" y="3525840"/>
            <a:ext cx="2268360" cy="2530440"/>
          </a:xfrm>
          <a:prstGeom prst="rect">
            <a:avLst/>
          </a:prstGeom>
          <a:ln w="12600">
            <a:solidFill>
              <a:srgbClr val="ffffcc"/>
            </a:solidFill>
            <a:miter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B. Energy Levels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52080" y="2614680"/>
            <a:ext cx="5807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Electrons can only exist at certain energy level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Low energy levels are close to the nucleu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Each energy level (n) can hold 2n</a:t>
            </a:r>
            <a:r>
              <a:rPr b="0" lang="en-US" sz="34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 electron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1" name="Electron Excitation.avi" descr=""/>
          <p:cNvPicPr/>
          <p:nvPr/>
        </p:nvPicPr>
        <p:blipFill>
          <a:blip r:embed="rId1"/>
          <a:stretch/>
        </p:blipFill>
        <p:spPr>
          <a:xfrm>
            <a:off x="6581880" y="2800440"/>
            <a:ext cx="2363760" cy="37432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. Bohr Model Diagrams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8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implified energy levels using Bohr’s idea of circular orbit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Oval 6"/>
          <p:cNvSpPr/>
          <p:nvPr/>
        </p:nvSpPr>
        <p:spPr>
          <a:xfrm>
            <a:off x="3403440" y="3960720"/>
            <a:ext cx="2140200" cy="21402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Oval 12"/>
          <p:cNvSpPr/>
          <p:nvPr/>
        </p:nvSpPr>
        <p:spPr>
          <a:xfrm>
            <a:off x="5110200" y="5489640"/>
            <a:ext cx="384120" cy="3841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Oval 13"/>
          <p:cNvSpPr/>
          <p:nvPr/>
        </p:nvSpPr>
        <p:spPr>
          <a:xfrm>
            <a:off x="3406680" y="4157640"/>
            <a:ext cx="384120" cy="3841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6309360" y="4863960"/>
            <a:ext cx="2576520" cy="1922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ximum 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336600" y="3384720"/>
            <a:ext cx="2153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ith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tomic #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ss: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# of p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# of e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# of n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0" name="Group 26"/>
          <p:cNvGrpSpPr/>
          <p:nvPr/>
        </p:nvGrpSpPr>
        <p:grpSpPr>
          <a:xfrm>
            <a:off x="3990960" y="4532400"/>
            <a:ext cx="963720" cy="998280"/>
            <a:chOff x="3990960" y="4532400"/>
            <a:chExt cx="963720" cy="998280"/>
          </a:xfrm>
        </p:grpSpPr>
        <p:sp>
          <p:nvSpPr>
            <p:cNvPr id="121" name="Oval 20"/>
            <p:cNvSpPr/>
            <p:nvPr/>
          </p:nvSpPr>
          <p:spPr>
            <a:xfrm>
              <a:off x="4043520" y="5006880"/>
              <a:ext cx="384120" cy="384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" name="Oval 21"/>
            <p:cNvSpPr/>
            <p:nvPr/>
          </p:nvSpPr>
          <p:spPr>
            <a:xfrm>
              <a:off x="4284720" y="4532400"/>
              <a:ext cx="384120" cy="384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" name="Oval 22"/>
            <p:cNvSpPr/>
            <p:nvPr/>
          </p:nvSpPr>
          <p:spPr>
            <a:xfrm>
              <a:off x="3990960" y="4680000"/>
              <a:ext cx="384480" cy="38412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" name="Oval 23"/>
            <p:cNvSpPr/>
            <p:nvPr/>
          </p:nvSpPr>
          <p:spPr>
            <a:xfrm>
              <a:off x="4272120" y="5146560"/>
              <a:ext cx="384120" cy="38412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" name="Oval 24"/>
            <p:cNvSpPr/>
            <p:nvPr/>
          </p:nvSpPr>
          <p:spPr>
            <a:xfrm>
              <a:off x="4281480" y="4815000"/>
              <a:ext cx="384480" cy="38412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" name="Oval 25"/>
            <p:cNvSpPr/>
            <p:nvPr/>
          </p:nvSpPr>
          <p:spPr>
            <a:xfrm>
              <a:off x="4565880" y="4692600"/>
              <a:ext cx="384120" cy="38412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" name="Oval 19"/>
            <p:cNvSpPr/>
            <p:nvPr/>
          </p:nvSpPr>
          <p:spPr>
            <a:xfrm>
              <a:off x="4570560" y="5021280"/>
              <a:ext cx="384120" cy="384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8" name="Oval 27"/>
          <p:cNvSpPr/>
          <p:nvPr/>
        </p:nvSpPr>
        <p:spPr>
          <a:xfrm>
            <a:off x="2986200" y="3543480"/>
            <a:ext cx="2975040" cy="2974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Oval 28"/>
          <p:cNvSpPr/>
          <p:nvPr/>
        </p:nvSpPr>
        <p:spPr>
          <a:xfrm>
            <a:off x="5392800" y="3787920"/>
            <a:ext cx="384120" cy="3841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0" name="Group 34"/>
          <p:cNvGrpSpPr/>
          <p:nvPr/>
        </p:nvGrpSpPr>
        <p:grpSpPr>
          <a:xfrm>
            <a:off x="5089320" y="3079800"/>
            <a:ext cx="3861000" cy="1838160"/>
            <a:chOff x="5089320" y="3079800"/>
            <a:chExt cx="3861000" cy="1838160"/>
          </a:xfrm>
        </p:grpSpPr>
        <p:sp>
          <p:nvSpPr>
            <p:cNvPr id="131" name="AutoShape 29"/>
            <p:cNvSpPr/>
            <p:nvPr/>
          </p:nvSpPr>
          <p:spPr>
            <a:xfrm>
              <a:off x="6262560" y="3079800"/>
              <a:ext cx="2687760" cy="148572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n replace with: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p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" name="Line 30"/>
            <p:cNvSpPr/>
            <p:nvPr/>
          </p:nvSpPr>
          <p:spPr>
            <a:xfrm flipH="1">
              <a:off x="5089320" y="3979800"/>
              <a:ext cx="1487160" cy="938160"/>
            </a:xfrm>
            <a:prstGeom prst="line">
              <a:avLst/>
            </a:prstGeom>
            <a:ln w="5724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" name="Oval 31"/>
            <p:cNvSpPr/>
            <p:nvPr/>
          </p:nvSpPr>
          <p:spPr>
            <a:xfrm>
              <a:off x="7161120" y="3600360"/>
              <a:ext cx="895320" cy="900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. Bohr Model Activity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1760" y="2057400"/>
            <a:ext cx="8921880" cy="138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4000"/>
          </a:bodyPr>
          <a:p>
            <a:pPr marL="116640" indent="-116640">
              <a:spcBef>
                <a:spcPts val="70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hoose a number between 1 &amp; 18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116640" indent="-116640">
              <a:spcBef>
                <a:spcPts val="1049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nd your element by the atomic number you picked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116640" indent="-116640">
              <a:spcBef>
                <a:spcPts val="1049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raw a Bohr Model diagram for your element on your marker board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252360" indent="-9684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ound off the mass listed on the table and subtract the atomic # to find the # of neutron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252360" indent="-9684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bbreviate the # of ‘p’ and ‘n’ in the nucleu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116640" indent="-116640">
              <a:spcBef>
                <a:spcPts val="1049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ave a partner check your drawing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116640" indent="-116640">
              <a:spcBef>
                <a:spcPts val="1049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peat with a new element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19:51:21Z</dcterms:created>
  <dc:creator>Mrs. Johannesson</dc:creator>
  <dc:description/>
  <dc:language>en-US</dc:language>
  <cp:lastModifiedBy>LEGION</cp:lastModifiedBy>
  <dcterms:modified xsi:type="dcterms:W3CDTF">2017-01-26T09:18:35Z</dcterms:modified>
  <cp:revision>92</cp:revision>
  <dc:subject/>
  <dc:title>II. Electron Cloud Model</dc:title>
</cp:coreProperties>
</file>